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5FE-E67C-4F37-BD69-862C632F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789-E5E7-420C-A08A-2B42F75B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B6F1B-BF18-449D-8D5A-B8753E9B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851C0-8AAD-477F-85C2-9727B60D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EC5CB-C0EB-4998-B773-91ABC94A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86751-B708-4156-A6DB-B067A028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717BC-F323-45E7-914E-B62E1586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EB43A-F0BC-4260-9D65-26A355EC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5ABC6-E7F3-4E28-A201-B9F1BDFD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875D6-0634-4814-B0FC-5F897C43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21E05-D89C-42B4-8896-AA7E3EA5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78557-E565-463F-A20A-F2F462D0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681-0183-4D94-A9E4-C5A78215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5D395-03C5-4E76-B4F1-DC636866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BBB44-06AF-42A1-9899-B8BEA1ED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BB684-65BC-4C33-B170-C9A05FB7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A3BFB-010D-4BB8-A939-43E2D68C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78925-EC89-47C9-BB37-75673327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9F485-3E33-4EE7-87B0-18702F8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97297-04EC-4E99-BD54-9AA66FBB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1CD8E-54B2-4B35-BCD2-A18F37E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576C0-2E47-4EF9-B352-7D738C95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08B34-3848-4E5B-A668-82418CEF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733-D3E5-4B47-AD8D-F8E9C935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E5F7F-3858-4170-87E3-302ED1CB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BA818-A4A6-4669-8BF7-0B245891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502B7-C601-4110-A056-A7B1415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63892-7515-4CB6-A185-F0BD8EC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E2164-54A0-45A1-9AB8-917EE354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822D3-EAA0-4D9E-BCBB-6E105658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F49A2-E41D-4F8F-8B9E-6C3C95A9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FD72F-C892-4482-B5A8-E926CB93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9622E-C403-4AC2-A0BA-A1DC0065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83447-D466-4E99-99F8-9C0E5669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6C39-A9AA-40A6-A78D-9B90F88C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69748-6368-4922-9631-763A1470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83DF1-108F-46F8-A81D-E5D27826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92FF6-758C-4AFC-9725-D3A78070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A4918-09EF-40FE-A7C0-CCA0C20A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E6930-B3C4-401E-BC83-9CBF2321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2DD57-2904-4F00-8E2E-D615D40A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BC05B-8447-4FDE-8D13-73B446AB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6F053-2830-4142-8CB6-EB2C34FB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B2157-8566-4724-82E3-1736ED76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D4D9B-EA1A-4548-979A-FFF1053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5FE7-7A86-42F7-8033-55F5BC4D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94734-1095-4643-969D-EECF2BA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9D0AA-388E-4206-B9C9-BBBAAC8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D3E5D-5EE4-4F99-9214-1D76F4D3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66E89-A9A8-420D-A738-B31A9D28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2F53D-1AC5-4C49-A536-FDAD6CBA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14B4D-8C12-479D-9C23-7E3DAFDE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95111-B94D-40B8-AEF8-9A3599BE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72BB5-5655-446C-9EB6-D6671C23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1FC4D-F3A7-4498-A56F-8B86043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D8618-6AD1-43C6-BD06-16B14EBB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2F88-E88E-4690-B77D-229A675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F9A81-82A0-42B0-81F5-21CCFF47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3BE6F-E07F-4B75-BECD-E7A71E1F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9686E-041B-420F-B1DE-D2AC5A19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293B5-F5D0-4AD9-A263-80DE06BE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A504F-25C8-4990-879C-67A0150C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84BDB-6E27-4F05-88FB-317E6FB3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CA0C3-7B07-4BBA-8675-B5EC37E4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C60F1-730C-4733-B0CB-0B87405A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18FF5-1ABE-43B8-95BA-AA0943DE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FA245-7E8A-49F6-A036-436967B2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E208-88C8-4F61-9FBB-293761E8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B2BAC-454B-4CF8-AA0A-AB3D444A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46CCA-1C97-4F76-8C3F-1EE5C574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ACB4D-1111-44D2-A2E8-E6BBD5D4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2D0E6-4B6B-43A1-B1AC-CA0CA484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9F7C7-FC8E-4216-9742-13786FE9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F2B34-815F-426D-B910-9EA29788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DA019-C2E4-47B4-AD36-B46A1E07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7443D-3A64-46FD-9845-7C6EC587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87287-86A8-4A1C-A752-A5DD31AE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117D8-E8D1-4C40-8057-ABD978C6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7C21-109D-451C-A95C-25AF3DF0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D13C6-73FF-4DF8-A15F-9F582E53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BFDFD-D8B8-498A-A875-9D1C4A3F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86B01-72CF-49CC-B614-B71419A8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478A9-2A9C-4A71-9FA4-DAC62DE3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C8F8E-174B-40D0-90AF-6E94C26D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61EA4-B5E2-454B-829E-11332507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FA2F2-F2DD-4699-A576-B6E17D7D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53FC8-712A-4ABB-92E6-687D8855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F8739-A2F7-43CF-AA70-9F268D4B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EAC4D-58D7-462A-AAB3-DCBD5928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FDAD-B382-496C-8A02-53D3635D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761AF-4F71-44A2-B5BD-EF4BD98E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464E2-6F81-45B7-A270-DD32F953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2853C-4727-4470-9479-B5967D72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771F2-603C-40E4-B833-BD6B2C27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3CACC-3E17-494F-8ADC-4133F14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5CC82-B4D6-4BB0-9A40-0ECE2312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CFBE9-B519-48F1-A28D-B0348578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98C19-4461-46B2-8F58-F63DBECB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1FA7C-F48B-4250-9317-36D9AE19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A1A96-8D0D-4888-B2A5-791C02A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821A-3DA4-4F93-B793-A5486907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24BDE-99AC-4D75-8F79-83C15B5B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42C22-CA7E-40E2-83A2-07D6B019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B0943-A906-4F54-ACA7-C49F99C4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179D3-D22A-4FAE-A692-D949C767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30B11-9F7C-45FB-842A-1A2248DB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F4846-970B-48E6-A136-78809346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FD7D7-4898-4872-AAFC-B7C5CDD9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36C5A-54F5-4C31-B9F5-AB6CFE98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F843E4-5CD5-413E-AA22-35568102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DA49E-EF55-4CF5-B109-67BD5F02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D59-CEF1-4753-83F0-84781867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8E1B-2319-46AF-B855-8F01282F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336BB-76EC-4BAB-ADF0-13ACB09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6D58E-1667-4D53-87FE-CAB9DBB5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D9E1F-CCE2-47A8-BC3E-3C1F9EBC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BF6DE-8DA6-4047-AB16-42A6FF4A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CF266-2404-4682-B6FD-C6D1170B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3A6A1-59D6-4304-B8F0-9CE13FBB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CB2A8-94C4-471D-B6DC-4748A725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31AEB-2626-4A1D-8629-ACA0202F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159AA-BA4A-4E20-B069-B9FCD4E2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36793-E0E4-4D41-873F-619E749E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7F24-EA5B-4CEA-AE3A-834BB388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7C2DA7-C114-4DDC-B3C0-E5A4CEE3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2D9E4-7353-4A00-BB33-758D6E2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D660A-E9E3-4563-B86D-9BA72D6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BE787-68CD-401D-BC2A-28BDDB71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37AA3-8979-4FFD-A009-2FA17256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5C9A3-CD5B-4A57-9B2D-E8724698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DA901-32A1-490D-BAC8-3A830353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30EF6-AC78-4766-BFD6-C4A39E23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4385C-BB88-4173-A838-E935817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02FE0-A15B-4D98-8283-588492AA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4544-7C48-4F23-BAAB-953C9D7F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08282-C951-40DF-BE34-6AAB067A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E9D9D-66E9-4DC1-AD31-F00AF824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B9B78-D103-404A-86E7-95E9BC5E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3822D-5434-4C29-9449-55DF343C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C65950-B492-40FB-B318-8F66A372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F9464-BC2F-40F2-9962-346C54B3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CD0C7-912B-4849-9300-136CB017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98E2C-7CFE-4FCD-ACBC-F1955DFA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8546F4-0518-49CF-92E7-7685B10A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A91CF-5BDD-4E1A-AE32-C3DE340A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25BE-1DF7-4598-81A3-3868BEF6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78B66-58E2-40F2-A4AB-6B3B8CD2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803782-2A8F-4A19-9798-8861CD51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29034-A97A-4422-B340-AF3C53D7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25611-6EC4-40A4-AEA1-C0531A0B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A67757-6C24-4EA5-8626-1277CDA5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11423-A772-46D7-88C4-4F9D3D20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BB4FF-1F60-419E-820A-85042EDA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9D945-1EE0-44B9-8B54-20198EB8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9FCEF-2BDC-41FA-AE46-CE9C30F1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88F2BB-3ED2-4EF9-833E-330049B4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F056-F6C5-4365-A566-865E343C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AF1A5-C5D8-4439-863B-E40BD49E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20D63-B49B-4627-AF42-6F03A93A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BA025D-0282-46FE-845B-E111B6CD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C34DD-1884-4456-B0F1-31797803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5C065-8CF2-40CE-8B55-763E87E4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F831D1-7A08-4702-889D-40862330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0FC0F-E60A-468F-9D89-D332040F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E6E3DB-FD1A-4B61-90E0-A37BECA0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0DBF1-7B9A-48D7-9F9A-82F38AD3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AE301-9A3A-4E71-947B-A92FA7AB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1703-864F-4037-A32C-FF4E5A8C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56252-D201-45D4-A9DC-8FF80D72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6CDA21-99B3-4F8E-AC74-815F7FF3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1CE8F-F5C8-43BE-9EF3-F9330AF7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B4C7-6D87-4456-8E11-F25D174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6627-D824-47A5-8EAF-70AD6E10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40B0-B545-441A-83F7-F4FD1B3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70BA-3F9C-40DD-8D53-7833122F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A2B-A5B9-42D3-B241-5ADD3F01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F0E0-8F9A-45D7-9486-9BC64F02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2DBB-A0E1-4C95-A731-77AB685A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53EE-A982-4417-8B34-5E7E88F4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C74A-A64A-41EB-B32F-AAEB2FD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2EAC-5EBB-4B03-927B-78903FB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DBF9-1145-4139-844E-E8612325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1B34-4C4F-4D28-A9ED-4B66262F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0ACA-E929-41DB-B864-509A1D85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FE60-4634-40D8-AAB4-DAAA264A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882F-4F93-4DD3-8305-CBBDFB4B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A54-58BD-4EE2-B5E8-DA5AE78C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927EE-0EB4-4EC8-BC5D-CCD016DD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26CE-7DA8-4422-A0B7-A8F52C59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33028-69F0-419B-B23F-512F371C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2AB9-8B5D-4369-A7A6-9EAB8CFF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13AA-91F6-49E3-B673-E5183866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5D2A-82F4-4C18-832D-CEDC422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DAE7-BC85-4652-9899-900485BE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F30A-B7FD-43FB-93E6-32E872C8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85EA3-9B75-469B-AB84-A648FF25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ACD1-79AB-42D8-B688-03A77CE3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F84-6788-416C-B2AB-9C0B267C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12B07-3422-4DC2-84CE-BCB14C80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D5AB1-2501-499A-B08F-4D61C5A2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0918A-6E98-49AA-A9CB-02D022CD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B558F-51FA-4D17-A70D-DACC2A15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5B012-240F-424C-8D2B-B59D481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2D79C-E169-40E3-BAB9-F3CA3720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338FC-9AE7-4E7C-A685-6333756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6B3A-2C5F-4820-8477-885F3244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64944-8C36-4D50-B96D-65EC8570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6D130-94C9-43D6-84C4-8BC156C5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1F2-BCF4-4D07-BA18-9985B486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BF24-2F55-4248-8780-36C5D1D5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513E3-28A0-428E-ADFF-43FD9D10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9B526-D4F7-4F38-B4F1-FBEC5513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0E55D-CBCF-4909-B1F5-87357D03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07DF1-7FA5-42B6-AC0B-78E001D2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C4798-2B6F-4FA2-AC4D-E5C58157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51C06-8125-4E5B-9D76-00A56310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FBFD4-B937-4B2A-8F05-B546191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D3972-D4AC-41EF-BCD5-471ED94A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3907-69EB-4E86-B4A0-0C729162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F29-0A60-44EB-8ABF-3A7D4E6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82027-2196-43EF-99BF-33EB707C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2EEEF-C40D-4615-B2BD-2C391696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F48A7-F6DE-4B30-BD6A-7579EF3C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E5B8F-8FF7-4391-B375-D9A65EBE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403B8-1EAE-4B57-8A28-78AA93E1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9A49B-A4A0-4151-AB24-120C9164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8A83C-D1EC-485C-B6C3-533946DA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3A8F-BD14-42C8-8084-E75D67CD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D5CB5-9A26-40DF-9F2E-54BE8B5B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EE88B-0F3E-4622-B5EB-27D0411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4CF-3AA9-43B9-92C9-3B191BD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CDACE-34D9-448F-807D-9C08FF9E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A2C68-962E-468C-8C09-81C72B12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63921-4EC7-407C-8331-6C535A32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AF861-177F-499C-B3FA-6FE13165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7E7F5-7C46-4144-8247-782D816F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4644A-19C9-4CCB-963A-73351CEF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F1BD-56F3-4B33-9CB7-4F3BE93B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F5EA4-FACF-49D0-83DD-87779C87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4D057-444E-4BDC-B2CF-D7DCF5D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1E183-B0AB-4487-9FB8-86A4FF01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F4E-6E5D-4245-8BF7-E064A83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1B2E9-A9A5-4E4F-B176-6331753D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83019-E047-4AB9-BD28-793BD18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2E7EA-4631-44F3-A530-9FA16EBC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0DBD8-DFFD-4DA8-839B-85A0448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A56D4-47CB-4E4F-9F7C-443D71ED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D0458-6622-4F7E-9E02-8CB5B042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4CDFD-3EAE-458B-A82A-5EFD61C0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B7AFB-C4D6-4AC0-95C9-66DED935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079A5-8E0B-406B-AD37-9D31089F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F95C-88FB-4C1D-8F26-43CD5331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82C1-7561-4E24-8DE6-7D97246CD1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C0B0-23C5-4EFE-B21E-B584EC0D62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A52A-4F30-4E2B-9422-2538A4E6E6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93B0-5927-41EE-A170-094971AF2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8AF9-0156-463C-8FFF-0E94382A6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995E-2357-4C10-8747-8DB2ED9D4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3571-21D7-4E38-B1AA-9FC57EA30F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0FF8-FA49-42A7-ADFE-730296CB4A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ABC6-4574-4BC3-97BB-EE71ED398D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770B-1ED7-40FD-B6A5-84694C268A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B548-B742-478D-B6A2-C6050646A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FA72-FF0E-4409-848E-AD4DCE5C94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4861-B554-42A2-B821-C5F7FF2C95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01A2-ED50-4757-B377-E996C1B9BD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E8D-723C-4EB4-A005-B3AE49D72C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B8E1-829F-461F-B7EE-B39513542A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BA69-31C5-4387-81CE-292EEC479E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63D-F54F-46F8-B1CA-021F0D470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0D61-A938-411D-A99B-CD4F6FD1D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BD8-BA63-438D-AB33-1ED162DD8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6C95-D782-4928-9CE2-FCB06A23C0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5BC3-D3DF-4DB6-916D-C2EAC32563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3859-183D-485F-A6B1-CCEF9A92EF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4943-ED25-4407-B14F-E8AAD3642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DDF7-97A2-45F7-A592-ED899ABEAA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D29F-6104-47BF-9370-96ABD48CF4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04DA-A8D9-4CB3-8E01-13C188E4A1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313C-1113-4780-A93B-3542BDF04E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EF2C-D42A-45E9-9417-FA15F70B21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A919-57E9-4AA0-833B-2D595A3F04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657A-EBA8-40E1-8F86-D41CC89FF0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9A59-9F43-48E0-8CB2-662124F2A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2687-9E02-42AC-8383-8F2BE2FCFA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65E3-136A-49A9-81FC-BDFB736871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A1E-71A7-42EC-9CC4-70FE6B414E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DD89-EF08-4BE5-87FA-26FC3ACC0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05DC-70B1-426F-98D8-60823A52E4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7101-9684-4536-8786-C4C7899D47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860D-518A-4695-BCDB-6A2D4D2D4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A930-1826-421C-ABC6-324557C3CF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328840" y="2952720"/>
            <a:ext cx="44863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9633" descr=""/>
          <p:cNvPicPr/>
          <p:nvPr/>
        </p:nvPicPr>
        <p:blipFill>
          <a:blip r:embed="rId1"/>
          <a:stretch/>
        </p:blipFill>
        <p:spPr>
          <a:xfrm>
            <a:off x="1771560" y="1652760"/>
            <a:ext cx="5600880" cy="3552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835280" y="1758960"/>
            <a:ext cx="5832360" cy="473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835280" y="2320920"/>
            <a:ext cx="5832360" cy="473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1835280" y="2938320"/>
            <a:ext cx="5832360" cy="4730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1835280" y="3500280"/>
            <a:ext cx="5832360" cy="4734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1835280" y="4019400"/>
            <a:ext cx="5832360" cy="473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1835280" y="4581360"/>
            <a:ext cx="58323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66760" y="1924200"/>
            <a:ext cx="8610480" cy="3009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549600" y="3789360"/>
            <a:ext cx="1008000" cy="473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5867280" y="3803760"/>
            <a:ext cx="1008360" cy="473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492360" y="4379760"/>
            <a:ext cx="50403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9410" descr=""/>
          <p:cNvPicPr/>
          <p:nvPr/>
        </p:nvPicPr>
        <p:blipFill>
          <a:blip r:embed="rId1"/>
          <a:stretch/>
        </p:blipFill>
        <p:spPr>
          <a:xfrm>
            <a:off x="195120" y="1052640"/>
            <a:ext cx="8753760" cy="47527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8042400" y="302724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8028000" y="4221000"/>
            <a:ext cx="5763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8373" descr=""/>
          <p:cNvPicPr/>
          <p:nvPr/>
        </p:nvPicPr>
        <p:blipFill>
          <a:blip r:embed="rId1"/>
          <a:stretch/>
        </p:blipFill>
        <p:spPr>
          <a:xfrm>
            <a:off x="233280" y="704880"/>
            <a:ext cx="8677440" cy="5819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7956720" y="70632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468360" y="3602160"/>
            <a:ext cx="3095640" cy="473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4427640" y="3587760"/>
            <a:ext cx="3095640" cy="473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539640" y="4767120"/>
            <a:ext cx="3888000" cy="473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4500720" y="4797360"/>
            <a:ext cx="424800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395280" y="5950080"/>
            <a:ext cx="8675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7352" descr=""/>
          <p:cNvPicPr/>
          <p:nvPr/>
        </p:nvPicPr>
        <p:blipFill>
          <a:blip r:embed="rId1"/>
          <a:stretch/>
        </p:blipFill>
        <p:spPr>
          <a:xfrm>
            <a:off x="266760" y="771480"/>
            <a:ext cx="8610480" cy="5753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029440" y="145584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3851280" y="315612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468360" y="4379760"/>
            <a:ext cx="6767640" cy="473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395280" y="4897440"/>
            <a:ext cx="6767640" cy="473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468360" y="5518080"/>
            <a:ext cx="6767640" cy="473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7"/>
          <a:stretch/>
        </p:blipFill>
        <p:spPr>
          <a:xfrm>
            <a:off x="395280" y="6035760"/>
            <a:ext cx="6767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6324" descr=""/>
          <p:cNvPicPr/>
          <p:nvPr/>
        </p:nvPicPr>
        <p:blipFill>
          <a:blip r:embed="rId1"/>
          <a:stretch/>
        </p:blipFill>
        <p:spPr>
          <a:xfrm>
            <a:off x="214200" y="2023920"/>
            <a:ext cx="8715600" cy="2810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7999560" y="2593800"/>
            <a:ext cx="57600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5300" descr=""/>
          <p:cNvPicPr/>
          <p:nvPr/>
        </p:nvPicPr>
        <p:blipFill>
          <a:blip r:embed="rId1"/>
          <a:stretch/>
        </p:blipFill>
        <p:spPr>
          <a:xfrm>
            <a:off x="228600" y="743040"/>
            <a:ext cx="8686800" cy="5371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013600" y="263700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684360" y="4925880"/>
            <a:ext cx="6048360" cy="473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6048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4276" descr=""/>
          <p:cNvPicPr/>
          <p:nvPr/>
        </p:nvPicPr>
        <p:blipFill>
          <a:blip r:embed="rId1"/>
          <a:stretch/>
        </p:blipFill>
        <p:spPr>
          <a:xfrm>
            <a:off x="281160" y="1028880"/>
            <a:ext cx="8581680" cy="48006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48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4824360" cy="473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409680" y="3976560"/>
            <a:ext cx="3816360" cy="473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4211640" y="3990960"/>
            <a:ext cx="3816360" cy="473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900000" y="4522680"/>
            <a:ext cx="7993080" cy="473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7"/>
          <a:stretch/>
        </p:blipFill>
        <p:spPr>
          <a:xfrm>
            <a:off x="900000" y="5157720"/>
            <a:ext cx="7993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52231" descr=""/>
          <p:cNvPicPr/>
          <p:nvPr/>
        </p:nvPicPr>
        <p:blipFill>
          <a:blip r:embed="rId1"/>
          <a:stretch/>
        </p:blipFill>
        <p:spPr>
          <a:xfrm>
            <a:off x="247680" y="1123920"/>
            <a:ext cx="8648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35:0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